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0888-1A56-4F97-9426-9DDEC293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C8C0-9250-49E2-9C86-E85B0FDB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82E0-A19D-486E-A362-0E46B788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B172-4DF7-48E7-8566-F4B5EF7E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C870-970C-4A97-A941-1A517B50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D53C-1A58-4978-8434-751D8C42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CDF6-6509-4CE4-95DF-BE7110E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F112-F440-4566-9FC2-31346D6C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AE7F-27F3-4942-82E1-8730C713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9C18-C7AE-4C55-BE8D-1602589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72C-E031-49A1-A1C6-112F441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E61D-33D8-4AE7-BD34-C72F60B0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8BA-F6C5-4239-AA89-09B47AA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7B2B-6B4F-4FF8-96C8-D8CA925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1ADB-8D5F-457E-A388-61A20274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7F35-DE8A-45E5-A4EE-3F243F1D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CAF5-8197-4C9A-B4EE-7D6BDB17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FABB-E044-4AD6-B255-2AD01D84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0DEF-6899-43DD-B292-30D9053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5DD4-52C5-446D-87FC-3DBCFCB2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50E4-258A-48EB-9D76-2D62885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3E12-B96F-4ABD-B238-1E569803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5A17-EF90-47E1-B302-DE6954A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4DE0-94B8-4AD6-B4A6-112683B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3BD-665C-429D-9C98-9812B51360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DA6-D3D3-4931-874E-F7A50B1FF4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comic"/>
              </a:rPr>
              <a:t>Электричество в жизн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352760" y="630864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удент КГПИ фмф143гр: Соловьёв А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чи ку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ширение теоретической и практической части учебной программы «Электричество»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вашей творческой самосто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иление связи обучения с жизнь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рмирование основ знаний будующей профес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склонности к изучению физик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творческих способностей, осознанных мотивов уч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ширить ваш кругозо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928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eleczon.ru/step.html#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potomy.ru/things/578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svet-consulting.ru/Usage/history%20electro.php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polkani.ru/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pkresurs-spb.ru/prais-listy/vidy-elektrostantsii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ГЭС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Генератор_переменного_ток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ТЭС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Солнечная_электростанция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aenergy.ru/37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lerk.ru/art019.htm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watta.ru/opyityi/zaryadi-ipod-limonom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referat.ru/pub/item/15035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eltok.edunet.uz/givelek.htm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www.katastrof.com.ua/art/sharovaya_molniya.html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- http://ru.wikipedia.org/wiki/Молния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Есть ли электричество на Марсе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Что там Марс?!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Давайте поговорим о земном электричеств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лектричество в жиз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Garamond"/>
              </a:rPr>
              <a:t>Сегодня без электроэнергии мы не можем представить свою жизнь, а ведь совсем еще недавно оно казалось страшным непонятным миру открытием. Некоторое время электроэнергия в принципе была доступна единицам, тогда, как сейчас о том, как обойтись без нее вряд ли кто знает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ы научимс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ать электричество из лимо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ьзоваться бытовыми электроприборами с соблюдением правил техники безопас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ать 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erPoin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ставлять буклеты 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sher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ть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для поиска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держание учебного ку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Электричество в природе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Электричество в жизни человека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лектричество в природ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Объяснение атмосферных явлений: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к возникает молния?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зможности молни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то такое шаровая молни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Электричество в живой природ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кие животные используют электричеств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куда они получают электричеств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Электричество в жизни челове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стория открытия электричеств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лучение электричеств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Возможности применения электричества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Электричество в быту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Электричество в профессиях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Электричество  и человек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??Проблемные вопросы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Что было бы если не было электричества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Электрический ток и человек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10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Можно ли получить электричество из продуктов питания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5:20:28Z</dcterms:created>
  <dc:creator>Sanosol</dc:creator>
  <dc:description/>
  <dc:language>en-US</dc:language>
  <cp:lastModifiedBy>Sanosol</cp:lastModifiedBy>
  <dcterms:modified xsi:type="dcterms:W3CDTF">2010-06-02T15:22:23Z</dcterms:modified>
  <cp:revision>2</cp:revision>
  <dc:subject/>
  <dc:title>Слайд 1</dc:title>
</cp:coreProperties>
</file>